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9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media/image5.wmf" ContentType="image/x-wmf"/>
  <Override PartName="/ppt/media/image30.wmf" ContentType="image/x-wmf"/>
  <Override PartName="/ppt/media/image7.jpeg" ContentType="image/jpeg"/>
  <Override PartName="/ppt/media/image12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gif" ContentType="image/gi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7E7-2D78-4B8D-BA8F-6A8F7E8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D09-CEF5-4CF1-95EF-CEB3669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A6A-D163-4CDF-A780-4D413F68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566-4952-4E00-9CAC-CDD7742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DB8-DC3A-4424-B368-D1820C5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15A0-6D41-4533-9149-1935388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658-DB4F-426D-B6C5-3C19CA56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3FA-A3DA-4B85-8E50-E112C83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927-A6F3-431A-8151-9DBBC1F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F6E-51F8-4F8C-A958-ADE96B0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DE4-374F-45D8-B52D-DD2A90F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927-8116-4DB7-97E5-520497B5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E96-596A-4E03-94F5-B94080E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602-DF80-4E04-B676-65016D28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DD32-F9C9-4778-A75F-70B50B1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EFD9-2D08-4B87-9DBD-6F31B2E9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6BEF-46F1-4F0B-AD3C-7026A4C6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71A-9C83-48C5-9F5F-F5C1376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A3F-B3D6-4866-B666-3FB2983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AD2-4438-484E-A56A-208EA37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628-3F37-4C70-AF49-BF5C86B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E92-C295-4C14-94E7-12EAC73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C48-1D1E-4B9F-9372-DB2CFFE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D9C-F799-46CF-AD9A-D773F5B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6760" y="0"/>
            <a:ext cx="11923200" cy="3809880"/>
            <a:chOff x="-3236760" y="0"/>
            <a:chExt cx="1192320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6760" y="685800"/>
              <a:ext cx="411408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3880" y="0"/>
              <a:ext cx="309312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2680" y="1523880"/>
              <a:ext cx="73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DAE3-987B-4882-A3B4-696AA7F33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0920" y="304920"/>
            <a:ext cx="11907360" cy="4724280"/>
            <a:chOff x="-3220920" y="304920"/>
            <a:chExt cx="11907360" cy="4724280"/>
          </a:xfrm>
        </p:grpSpPr>
        <p:sp>
          <p:nvSpPr>
            <p:cNvPr id="46" name="Line 3"/>
            <p:cNvSpPr/>
            <p:nvPr/>
          </p:nvSpPr>
          <p:spPr>
            <a:xfrm>
              <a:off x="1448640" y="2514600"/>
              <a:ext cx="72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2800" y="1371600"/>
              <a:ext cx="365688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0920" y="304920"/>
              <a:ext cx="403776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3C3-BD73-4B0A-890F-E45CD14E4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peed and Accele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mo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Ferrari Formula One Racing Car"/>
          <p:cNvPicPr/>
          <p:nvPr/>
        </p:nvPicPr>
        <p:blipFill>
          <a:blip r:embed="rId1"/>
          <a:srcRect l="0" t="0" r="-1323" b="20004"/>
          <a:stretch/>
        </p:blipFill>
        <p:spPr>
          <a:xfrm>
            <a:off x="6248520" y="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amborghini-reventon-vs-tornado-fighter-jet"/>
          <p:cNvPicPr/>
          <p:nvPr/>
        </p:nvPicPr>
        <p:blipFill>
          <a:blip r:embed="rId2"/>
          <a:stretch/>
        </p:blipFill>
        <p:spPr>
          <a:xfrm>
            <a:off x="2590920" y="3505320"/>
            <a:ext cx="4095720" cy="250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Velocity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ED and DIRECTION of an obje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irplane moving North at 500 mp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issile moving towards you at 200 m/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Documents and Settings\hymano\Local Settings\Temporary Internet Files\Content.IE5\M4JEETZT\MCj0366266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98432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hymano\Local Settings\Temporary Internet Files\Content.IE5\B939EBO6\MPj04140450000[1].jpg"/>
          <p:cNvPicPr/>
          <p:nvPr/>
        </p:nvPicPr>
        <p:blipFill>
          <a:blip r:embed="rId2"/>
          <a:srcRect l="0" t="27495" r="35837" b="11241"/>
          <a:stretch/>
        </p:blipFill>
        <p:spPr>
          <a:xfrm>
            <a:off x="4572000" y="4689360"/>
            <a:ext cx="3048120" cy="194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 rot="19389600">
            <a:off x="380880" y="3276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the difference between speed and veloc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ed is just distance/time. Velocity includes direction as wel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Content Placeholder 3"/>
          <p:cNvGraphicFramePr/>
          <p:nvPr/>
        </p:nvGraphicFramePr>
        <p:xfrm>
          <a:off x="533520" y="1827360"/>
          <a:ext cx="815004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7360"/>
                    <a:ext cx="81500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" descr="C:\Documents and Settings\hymano\Local Settings\Temporary Internet Files\Content.IE5\I7NGU1IU\MCj03886760000[1].wmf"/>
          <p:cNvPicPr/>
          <p:nvPr/>
        </p:nvPicPr>
        <p:blipFill>
          <a:blip r:embed="rId3"/>
          <a:stretch/>
        </p:blipFill>
        <p:spPr>
          <a:xfrm rot="20160000">
            <a:off x="4051080" y="3247560"/>
            <a:ext cx="1815840" cy="38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45360" y="50292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7569000" y="2071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Content Placeholder 3"/>
              <p:cNvSpPr txBox="1"/>
              <p:nvPr/>
            </p:nvSpPr>
            <p:spPr>
              <a:xfrm>
                <a:off x="533520" y="1827360"/>
                <a:ext cx="815004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eleratio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iti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6" name="TextBox 4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956560" cy="125100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7" descr=""/>
          <p:cNvPicPr/>
          <p:nvPr/>
        </p:nvPicPr>
        <p:blipFill>
          <a:blip r:embed="rId2"/>
          <a:stretch/>
        </p:blipFill>
        <p:spPr>
          <a:xfrm>
            <a:off x="7070760" y="3108240"/>
            <a:ext cx="15238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Content Placeholder 3"/>
              <p:cNvSpPr txBox="1"/>
              <p:nvPr/>
            </p:nvSpPr>
            <p:spPr>
              <a:xfrm>
                <a:off x="533520" y="1827360"/>
                <a:ext cx="815328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l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n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iti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0" name="TextBox 7" descr=""/>
          <p:cNvPicPr/>
          <p:nvPr/>
        </p:nvPicPr>
        <p:blipFill>
          <a:blip r:embed="rId1"/>
          <a:stretch/>
        </p:blipFill>
        <p:spPr>
          <a:xfrm>
            <a:off x="6918480" y="3108240"/>
            <a:ext cx="2079360" cy="7938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5307480" y="48006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437240" y="380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TextBox 4" descr=""/>
          <p:cNvPicPr/>
          <p:nvPr/>
        </p:nvPicPr>
        <p:blipFill>
          <a:blip r:embed="rId2"/>
          <a:stretch/>
        </p:blipFill>
        <p:spPr>
          <a:xfrm>
            <a:off x="2054160" y="1359000"/>
            <a:ext cx="59562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peed: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vs. Time Graph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Content Placeholder 3"/>
              <p:cNvSpPr txBox="1"/>
              <p:nvPr/>
            </p:nvSpPr>
            <p:spPr>
              <a:xfrm>
                <a:off x="533520" y="1827360"/>
                <a:ext cx="8153280" cy="46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l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n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iti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6" name="TextBox 7" descr=""/>
          <p:cNvPicPr/>
          <p:nvPr/>
        </p:nvPicPr>
        <p:blipFill>
          <a:blip r:embed="rId1"/>
          <a:stretch/>
        </p:blipFill>
        <p:spPr>
          <a:xfrm>
            <a:off x="6918480" y="3108240"/>
            <a:ext cx="2079360" cy="793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333040" y="48006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minu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434720" y="38098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0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TextBox 6" descr=""/>
          <p:cNvPicPr/>
          <p:nvPr/>
        </p:nvPicPr>
        <p:blipFill>
          <a:blip r:embed="rId2"/>
          <a:stretch/>
        </p:blipFill>
        <p:spPr>
          <a:xfrm>
            <a:off x="2054160" y="1359000"/>
            <a:ext cx="5956200" cy="125100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8" descr=""/>
          <p:cNvPicPr/>
          <p:nvPr/>
        </p:nvPicPr>
        <p:blipFill>
          <a:blip r:embed="rId3"/>
          <a:stretch/>
        </p:blipFill>
        <p:spPr>
          <a:xfrm>
            <a:off x="2236680" y="5126040"/>
            <a:ext cx="58532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erent Slo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Rectangle 7"/>
          <p:cNvGraphicFramePr/>
          <p:nvPr/>
        </p:nvGraphicFramePr>
        <p:xfrm>
          <a:off x="609480" y="1852560"/>
          <a:ext cx="77724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52560"/>
                    <a:ext cx="77724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709720" y="4056120"/>
            <a:ext cx="414360" cy="515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672240" y="2608200"/>
            <a:ext cx="414360" cy="515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>
            <a:off x="6553080" y="281952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553080" y="3124080"/>
            <a:ext cx="1526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724280" y="3429000"/>
            <a:ext cx="546120" cy="61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09680" y="50292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8862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26708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15200" y="30481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211480" y="50594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369120" y="3886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006800" y="43434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n = 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812840" y="39924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0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403760" y="33526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2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179520" y="4724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e = 1 k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638680"/>
            <a:ext cx="1752480" cy="685800"/>
          </a:xfrm>
          <a:prstGeom prst="wedgeRectCallout">
            <a:avLst>
              <a:gd name="adj1" fmla="val 78805"/>
              <a:gd name="adj2" fmla="val -166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48000" y="567072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1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1752480" cy="762120"/>
          </a:xfrm>
          <a:prstGeom prst="wedgeRectCallout">
            <a:avLst>
              <a:gd name="adj1" fmla="val 43023"/>
              <a:gd name="adj2" fmla="val 186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178440" y="253044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0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0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4419720"/>
            <a:ext cx="1676520" cy="838080"/>
          </a:xfrm>
          <a:prstGeom prst="wedgeRectCallout">
            <a:avLst>
              <a:gd name="adj1" fmla="val -55208"/>
              <a:gd name="adj2" fmla="val -180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120080" y="4495680"/>
            <a:ext cx="1436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lope = Rise/R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2 km/1 h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km/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low is a distance vs. time graph of my position during a race. What was my AVERAGE speed for the entire ra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Rectangle 7"/>
          <p:cNvGraphicFramePr/>
          <p:nvPr/>
        </p:nvGraphicFramePr>
        <p:xfrm>
          <a:off x="1143000" y="3200400"/>
          <a:ext cx="678168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00400"/>
                    <a:ext cx="67816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590920" y="5638680"/>
            <a:ext cx="48006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373356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051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Speed = Total distance/Total time = 12 km/6 h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km/h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426560" y="6110280"/>
            <a:ext cx="12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6 h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585560" y="4343400"/>
            <a:ext cx="152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12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7543800" y="2361960"/>
            <a:ext cx="9907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334120" y="2285640"/>
            <a:ext cx="304776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does the slope of a distance vs. time graph show you about the motion of an objec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tells you the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low is a distance vs. time graph for 3 runners. Who is the fastes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Rectangle 7"/>
          <p:cNvGraphicFramePr/>
          <p:nvPr/>
        </p:nvGraphicFramePr>
        <p:xfrm>
          <a:off x="1752480" y="2819520"/>
          <a:ext cx="6096240" cy="32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609624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544760" y="609588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roy is the fastest. He completed the race in 3 h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rot="2623800">
            <a:off x="2603160" y="3205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asuring Distan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er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tional unit for measuring dist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Olympic-Pool-24519"/>
          <p:cNvPicPr/>
          <p:nvPr/>
        </p:nvPicPr>
        <p:blipFill>
          <a:blip r:embed="rId1"/>
          <a:stretch/>
        </p:blipFill>
        <p:spPr>
          <a:xfrm>
            <a:off x="5410080" y="2809800"/>
            <a:ext cx="3571920" cy="389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Line 6"/>
          <p:cNvSpPr/>
          <p:nvPr/>
        </p:nvSpPr>
        <p:spPr>
          <a:xfrm>
            <a:off x="6019920" y="3048120"/>
            <a:ext cx="304560" cy="19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376680" y="373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5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1" descr="5"/>
          <p:cNvPicPr/>
          <p:nvPr/>
        </p:nvPicPr>
        <p:blipFill>
          <a:blip r:embed="rId2"/>
          <a:stretch/>
        </p:blipFill>
        <p:spPr>
          <a:xfrm>
            <a:off x="914400" y="4419720"/>
            <a:ext cx="2895480" cy="1392120"/>
          </a:xfrm>
          <a:prstGeom prst="rect">
            <a:avLst/>
          </a:prstGeom>
          <a:ln w="0">
            <a:noFill/>
          </a:ln>
        </p:spPr>
      </p:pic>
      <p:sp>
        <p:nvSpPr>
          <p:cNvPr id="100" name="Line 12"/>
          <p:cNvSpPr/>
          <p:nvPr/>
        </p:nvSpPr>
        <p:spPr>
          <a:xfrm>
            <a:off x="1143000" y="41148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704240" y="36892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celeration =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speeding 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celeration –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ate at which velocity chan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be a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in sp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in sp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in dir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ypes of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ing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speeds up at green lig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ing sp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slows down at stop lig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nging Dir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Car takes turn (can be at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nstant spe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219320" cy="879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 flipV="1">
            <a:off x="5866920" y="1599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866920" y="1752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019920" y="15238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051200" cy="104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67480" y="2666880"/>
            <a:ext cx="738360" cy="722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1219320" cy="879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705720" y="3429000"/>
            <a:ext cx="1066680" cy="30492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creeeeech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 rot="1059000">
            <a:off x="5486040" y="5486040"/>
            <a:ext cx="1219320" cy="87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 rot="19681200">
            <a:off x="7162560" y="5486040"/>
            <a:ext cx="1218960" cy="87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72200" y="6324480"/>
            <a:ext cx="1447920" cy="3049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a car be accelerating if its speed is a constant 65 km/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t is changing directions it is accelera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an object is moving in a straight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Rectangle 7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696440" cy="1051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371600" y="4113360"/>
            <a:ext cx="6707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ts of accelerat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90320" indent="-1886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5533920"/>
            <a:ext cx="990360" cy="71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724280" y="55627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990720" cy="714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7240" y="511956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16748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53908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490140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8406360" y="510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14120" y="6186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04480" y="61722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534760" y="6186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769640" y="617220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8111520" y="617220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6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564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09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285640" y="6019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419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26672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7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4344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1484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5434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Rectangle 7" descr=""/>
          <p:cNvPicPr/>
          <p:nvPr/>
        </p:nvPicPr>
        <p:blipFill>
          <a:blip r:embed="rId6"/>
          <a:stretch/>
        </p:blipFill>
        <p:spPr>
          <a:xfrm>
            <a:off x="1066680" y="1828800"/>
            <a:ext cx="73137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24032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skydiver accelerates from 20 m/s to 40 m/s in 2 seconds. What is the skydiver’s average acceleratio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ccel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use 2 kinds of grap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ed vs.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ce vs.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peed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90720" y="5257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increasing with time = acceler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 is straight = acceleration i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peed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09680" y="5257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peed vs. Time grap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= Rise/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 m/s ÷ 2 s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567240"/>
            <a:ext cx="1447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295740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429080" y="365760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2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5973840" y="304812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4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cceleration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vs. Time Graph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Rectangl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280" y="52578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Distance vs. Time graphs a curved line means the object is accelera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ved line also means your speed is increasing. Remember slope = spe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320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2514600" y="419112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191120"/>
            <a:ext cx="7617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191120"/>
            <a:ext cx="7621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867280" y="32767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02920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91120" y="39621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352680" y="4038480"/>
            <a:ext cx="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peed (S)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 distance traveled (d) / the amount of time it took (t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31360" y="374328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 = d/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5" name="Rectangle 7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551240" y="5105520"/>
            <a:ext cx="68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 is a graph showing the speed of a car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How is the speed of the car changing (speeding up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owing down, or staying the same)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What is this car’s acceleratio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793160" y="6216480"/>
            <a:ext cx="53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r is slowing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= rise/run = -6m/s ÷3s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2 m/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28954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9548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4886280" y="243828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= 3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6674400" y="3124080"/>
            <a:ext cx="154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e = -6 m/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19560" cy="3450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62120" y="5486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ich line represents an object that is accelera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4648320"/>
            <a:ext cx="82296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ack and red li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 a objects that are accelerating. Black is going a greater distance each second, so it must be speeding up. Red is going less each second, so must be slowing down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mber: in distance vs. time graph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ved line = accelerating, flat line = constant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: Hard 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7" name="Rectangle 7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67280" cy="3365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4600" y="5105520"/>
            <a:ext cx="61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 is a graph showing the speed of a car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What would a distance vs. time graph for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 lik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Rectangle 7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s for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s, but will always be a distance unit / a time un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. Cars: mi./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ts: km/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nails: cm/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lling objects: m/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 travel 100 kilometer in one hour then I have a speed of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100 km/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I travel 1 meter in 1 second then I have a speed of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1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9960" y="53352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 = d/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rage spe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ed is usually NOT CONS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. Cars stop and go regular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nners go slower uphill than downhi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verage spe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total distance traveled/total time it took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verage Speed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took me 1 hour to go 40 km on the highway. Then it took me 2 more hours to go 20 km using the stree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tal Distanc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0 km + 20 km = 60 k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tal Time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 h + 2 h = 3 h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ve. Spee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d/total t = 60 km/3 h = 20 km/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5715000"/>
            <a:ext cx="36450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travelled 25 km in 10 minutes. How many meters have I travell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) 25000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) .0112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) .025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) 2.5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47120" y="54864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 km * 1000m/km = 250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ran 1000 m in 3 minutes. Then ran another 1000 m uphill in 7 minutes. What is my average spe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) 10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) 200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) 1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) 200 m/mi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) 20 m/m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90720" y="3505320"/>
            <a:ext cx="729144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Dist.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0 m + 1000 m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00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tal Time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min + 7 min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0 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ve speed = total dist/total time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m/10 min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0 m/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9:53Z</dcterms:created>
  <dc:creator>DUSD #89</dc:creator>
  <dc:description/>
  <dc:language>en-US</dc:language>
  <cp:lastModifiedBy>DUSD #89</cp:lastModifiedBy>
  <dcterms:modified xsi:type="dcterms:W3CDTF">2016-09-19T23:57:45Z</dcterms:modified>
  <cp:revision>22</cp:revision>
  <dc:subject/>
  <dc:title>Speed and Accel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